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EBAC-D145-46AE-BE0A-5D5316366B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37AB-1688-442C-8192-97257683CB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EBE9-2B8B-4367-95ED-26D8BD16DC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DF2F8-04D9-4A9F-ACFA-33B563D3A2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4F1C-7354-4229-A525-49BF5DCCB7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45A5-DB3D-4037-AB3C-A1CB09E69A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94CF-EE98-43C2-A64C-A13FD2E499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92DD-4560-45AF-AF94-40E3EFAA65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F914-AE91-4605-B7F0-CB89A774F8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7F34-23D4-4A32-97BF-C95C30B572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3291-CBD8-488C-AE2A-26F1790814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E824-486B-478B-BAC7-F3B523DEB6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832200" y="6399360"/>
            <a:ext cx="147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5 Ainsley Nies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6265800" y="4816440"/>
            <a:ext cx="1792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utura B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1750-F3D3-4D62-88A2-A6E2DF72A488}" type="slidenum">
              <a:rPr b="0" lang="en-US" sz="14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66720" y="2048040"/>
            <a:ext cx="79246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21:46:49Z</dcterms:created>
  <dc:creator>Ainsley Nies</dc:creator>
  <dc:description>For UCB class
© 2006 Ainsley Nies </dc:description>
  <dc:language>en-US</dc:language>
  <cp:lastModifiedBy>ainsley</cp:lastModifiedBy>
  <cp:lastPrinted>2003-04-17T16:43:04Z</cp:lastPrinted>
  <dcterms:modified xsi:type="dcterms:W3CDTF">2007-10-16T12:28:08Z</dcterms:modified>
  <cp:revision>894</cp:revision>
  <dc:subject>Retrospectives</dc:subject>
  <dc:title>Retrospectives: Learning to Profit from Your Exps</dc:title>
</cp:coreProperties>
</file>